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E29C-D4A6-4679-B894-508C0C8C7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64C3-F290-4A34-9090-745B907E5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025C-A712-4B11-9C71-4AC977BA5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FF54-77A8-484A-9350-F0F5D93ED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21C3-8E20-400C-AD62-611467D0A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74C4-E3A9-4381-A954-E62B3CB46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8020-8178-440A-91DB-FE8360F8A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0BE7-AD2E-44CC-A5CD-14EFC66EE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3F50-54C9-4D1B-851E-1A2D223C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0B3A-C148-448D-B472-A1C022186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DC80-18F1-427C-9F67-6FB51EA24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F335-77E7-43E4-B542-CAB6FE04B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4055-81B9-4734-8039-9E928E504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D126-245E-4F4D-AA73-407B5B1DA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AD25-B7D8-40D3-90EA-E53C955C5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DBB6-CAAB-4837-AA3F-6F3A3DCA0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29D3-2F1A-4BFC-A37F-A0AD05CBC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F65B-F5DB-40DA-80BD-7DA5B2A7D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F556-B498-4D6C-8BEE-4D6E8214B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D4AD-F655-4B12-80BD-29D4D652C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899E-96DF-4435-B85E-5374B4B43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D9AE-AE43-498B-93A2-786CAB567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DC98-C47F-462C-8638-840C1DC7C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453D-70CE-4FBC-9ED6-05EF7B322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1378-FA10-49E7-ABB4-586E5CB61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9F56-5148-4384-A660-274B9438D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4599-8B09-42E6-882A-6D0654205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33B7-F331-46F7-941C-C03DE6C06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D287-EC59-4024-A7F3-B779F47C7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8FDC-6D13-4CA1-A62B-16674974E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95B1-2D28-407A-9A05-70DF66326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4D56-B755-45EE-B033-DC3931011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8E40-EFE8-4CFA-89C0-DE93E8591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E2F1-4433-42C1-90BD-B03E6C641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C51C-9928-426D-8ECF-43E4A83B0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6F1E-D218-45CE-98A3-0B1D9C77A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21C3-5D81-4241-AF38-7AC8B7BF9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00BA-317F-4A06-8E15-9BE36CCE0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E447-A1F3-44AD-8400-AA02042CC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98D0-C669-4D61-9192-56B4CF55C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20B9-9732-4C8B-B356-77A00CE25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A3FC-1382-4A41-BF6C-CBE9B3E68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02C0-2A7A-46D7-934D-848F97E37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6D92-F581-4210-B74E-FA48003F9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71E2-4C33-4240-B3A9-C944C0E4E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FF19-D081-4424-A868-FEC1E35A1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F954-B160-4C58-B67D-4D9FF0D3E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A1FE-F0D3-4D37-9F36-B52E3F778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B7C1-044B-4C5C-B8F3-4F4A1C741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C9B9-7EA2-4E75-93E9-A9D976DFD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7BD-EF03-43D0-989E-503BF982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D0C-E9E3-4524-95E9-16582F6F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A67-A40D-4716-9BB5-9B9B8AF1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6E1-A6F3-4345-A9CB-42BB4444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D095-6BDD-438D-A2A3-6626EC73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850-9E84-4B3B-8A6D-F90E6417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BF1-E453-4E1F-91EE-BE59FA55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62F-6BAA-4524-AAA6-F77EF135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067-F6F7-420A-9A8C-352964E1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830-2123-4AF5-BB4F-FD4FE152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3CC1-DF24-4778-BF7D-54E25D85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D5F-3463-45A8-8E7E-4A8BEE27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d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955E-1301-4285-94EB-DBEC19012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52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larendon Cd (W1)"/>
              </a:rPr>
              <a:t>Studying Children’s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Number of Children in the United States:  1950-2020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(Projected)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5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6" name="Picture 4" descr="mee32357_0106"/>
          <p:cNvPicPr/>
          <p:nvPr/>
        </p:nvPicPr>
        <p:blipFill>
          <a:blip r:embed="rId1"/>
          <a:stretch/>
        </p:blipFill>
        <p:spPr>
          <a:xfrm>
            <a:off x="1143000" y="2362320"/>
            <a:ext cx="66294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Portrait of America’s Kindergartners:  Class of 1998/1999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6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nic background:  58% white, 19% Latino, 15% African American, 3% Asian, 2% American Indian or Alaskan Native, 1% Hawaiian Native or Pacific Isla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% live with two par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ly 50% have mothers with some college education or a college de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Portrait of America’s Kindergartners:  Class of 1998/1999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6 cont.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to kindergarten, 3 out of 5 children received care on a regular basis other than a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children enter kindergarten for the first time, parents report that 92 percent are eager to learn and 75 percent persist at tasks very of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ly half of parents report that a family member reads or sings to their kindergarten-age child on a regular ba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Portrait of America’s Kindergartners:  Class of 1998/1999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6 cont.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ely 66 percent of first-time kindergarten students can recognize their letters, and 94 perc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cognize numbers and count to 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12 percent of boys and 11 percent of gir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body mass index that places them at risk for becoming overw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portant note:  the above characteristics varied by family type, income level, ethnicity, language spoken at home, and maternal edu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anging Demographics of U.S. School Populatio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7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4" name="Picture 5" descr="mee32357_0108"/>
          <p:cNvPicPr/>
          <p:nvPr/>
        </p:nvPicPr>
        <p:blipFill>
          <a:blip r:embed="rId1"/>
          <a:stretch/>
        </p:blipFill>
        <p:spPr>
          <a:xfrm>
            <a:off x="990720" y="1981080"/>
            <a:ext cx="67053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085400" y="838080"/>
            <a:ext cx="6534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nvolved should schools be in our children’s li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hildren who speak a language other than English at home or who have difficulty speaking English: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3 million in 2003, an increase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3 million in 197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pproximately 5 percent of school-age children in the United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914400" y="6019920"/>
            <a:ext cx="92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: Federal Interagency Forum on Child and Family Statistics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ince 1975, with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ildren of All Handicapped Act (PL 94-142)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number of laws have been enacted to ensure equal opportunities for children with disabiliti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Individuals with Disabilities Education Improvement Act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(IDEA)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cludes a zero-reject mandate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What is the purpose and  function of schools, should it focus on economic, personal or social development? As educators we should have a form of personal philosophy of education, briefly explain what you think the role schools play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s the development of school readiness influenced by internal or environmental processes?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Find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ly half of the teachers were nativ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ining teachers thought it was environ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fs about school readiness influenced teachers’ recommendation of an extra year of kinderg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Picture 2"/>
          <p:cNvPicPr/>
          <p:nvPr/>
        </p:nvPicPr>
        <p:blipFill>
          <a:blip r:embed="rId1"/>
          <a:stretch/>
        </p:blipFill>
        <p:spPr>
          <a:xfrm>
            <a:off x="457200" y="609480"/>
            <a:ext cx="4952880" cy="541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Rectangle 4"/>
          <p:cNvSpPr/>
          <p:nvPr/>
        </p:nvSpPr>
        <p:spPr>
          <a:xfrm>
            <a:off x="5714640" y="2057400"/>
            <a:ext cx="259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1.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rtra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erica’s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ldren’s Defense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00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erspectives on Children’s Development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004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log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analy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g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Development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fers to changes in the child that occur over time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Theor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fers to a set of general statements used to explain facts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ositions taken on certain basic core issu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828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e versus nur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bility versus plast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ty versus discontin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ive versus active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point versus no en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iological Theor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been used to explain changes in height, weigh, language, mental abilities, motor skills, and many other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sychoanalytic Theor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developmental changes in the self and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ehavioral Theor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that developmental changes in behavior are influenced by the environment, and the major mechanisms of development are principles of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Picture 1"/>
          <p:cNvPicPr/>
          <p:nvPr/>
        </p:nvPicPr>
        <p:blipFill>
          <a:blip r:embed="rId1"/>
          <a:stretch/>
        </p:blipFill>
        <p:spPr>
          <a:xfrm>
            <a:off x="1752480" y="2438280"/>
            <a:ext cx="6019920" cy="2133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gnitive Theor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9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the ways children construct their own understandings of their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ools as a Context for Developmen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have spent more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,000 hours in school by the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raduate from high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del of Human Information Processing System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10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0" name="Picture 4" descr="mee32357_0112"/>
          <p:cNvPicPr/>
          <p:nvPr/>
        </p:nvPicPr>
        <p:blipFill>
          <a:blip r:embed="rId1"/>
          <a:stretch/>
        </p:blipFill>
        <p:spPr>
          <a:xfrm>
            <a:off x="838080" y="1981080"/>
            <a:ext cx="830592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textual Theori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90360" y="21337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the influence of the social and cultural context on children’s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ial-Cultural The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logical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ronfenbrenner’s Ecological Model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11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04" name="Picture 5" descr="mee32357_0113"/>
          <p:cNvPicPr/>
          <p:nvPr/>
        </p:nvPicPr>
        <p:blipFill>
          <a:blip r:embed="rId1"/>
          <a:stretch/>
        </p:blipFill>
        <p:spPr>
          <a:xfrm>
            <a:off x="2666880" y="1981080"/>
            <a:ext cx="4365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research design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the plan or structure of an investigation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hypothesi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a statement derived from theory that has not yet been validate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Picture 3"/>
          <p:cNvPicPr/>
          <p:nvPr/>
        </p:nvPicPr>
        <p:blipFill>
          <a:blip r:embed="rId1"/>
          <a:stretch/>
        </p:blipFill>
        <p:spPr>
          <a:xfrm>
            <a:off x="1295280" y="1066680"/>
            <a:ext cx="6782040" cy="44229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case stud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an in-depth investigation of one person or a small group of individual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Correlational studie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tell us what factors influence or are associated in a positive or negative way and are, perhaps,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most widely used design in developmental research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Model of Positive Correlation Between School Achievement and Self-Esteem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12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1" name="Picture 4" descr="mee32357_0114"/>
          <p:cNvPicPr/>
          <p:nvPr/>
        </p:nvPicPr>
        <p:blipFill>
          <a:blip r:embed="rId1"/>
          <a:stretch/>
        </p:blipFill>
        <p:spPr>
          <a:xfrm>
            <a:off x="1600200" y="2362320"/>
            <a:ext cx="539892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a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longitudinal stud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, the development of one group of children is tracked over several year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mee32357_0103"/>
          <p:cNvPicPr/>
          <p:nvPr/>
        </p:nvPicPr>
        <p:blipFill>
          <a:blip r:embed="rId1"/>
          <a:stretch/>
        </p:blipFill>
        <p:spPr>
          <a:xfrm>
            <a:off x="2590920" y="1676520"/>
            <a:ext cx="4252680" cy="472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Times New Roman"/>
              </a:rPr>
              <a:t>Percentage of Time Adolescents Spend in Different Settings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2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a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cross-sectional stud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, researchers select children of different ages and measure the factor under stud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an </a:t>
            </a: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experimental stud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, participants are randomly selected and randomly assigned to either of two conditions: an experimental or a control group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odel of the Bobo Doll Experiment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13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6" name="Picture 4" descr="mee32357_0115"/>
          <p:cNvPicPr/>
          <p:nvPr/>
        </p:nvPicPr>
        <p:blipFill>
          <a:blip r:embed="rId1"/>
          <a:stretch/>
        </p:blipFill>
        <p:spPr>
          <a:xfrm>
            <a:off x="457200" y="2362320"/>
            <a:ext cx="8001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Action research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is carried out by teachers, administrators, and other change agents in the school to improve the educational environment for their student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Action Research Spiral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14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9" name="Picture 4" descr="mee32357_0116"/>
          <p:cNvPicPr/>
          <p:nvPr/>
        </p:nvPicPr>
        <p:blipFill>
          <a:blip r:embed="rId1"/>
          <a:stretch/>
        </p:blipFill>
        <p:spPr>
          <a:xfrm>
            <a:off x="1066680" y="2209680"/>
            <a:ext cx="7239240" cy="37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lf-Repor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ildren can report on their own behavior, their parents’ and teachers’ behavior, or their peers’ behavior.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Picture 2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Performance assessment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eek to measure children’s ability to perform specific tasks correctly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ervation of Liquid Problem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17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4" name="Picture 5" descr="mee32357_0119"/>
          <p:cNvPicPr/>
          <p:nvPr/>
        </p:nvPicPr>
        <p:blipFill>
          <a:blip r:embed="rId1"/>
          <a:stretch/>
        </p:blipFill>
        <p:spPr>
          <a:xfrm>
            <a:off x="380880" y="2057400"/>
            <a:ext cx="78771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refers to the consistency or precision of a measurement when repeated under similar circumstance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mee32357_0104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622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ercentage of 3-,4-, and 5-Year-Olds in Preschool Programs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3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cc"/>
                </a:solidFill>
                <a:latin typeface="Times New Roman"/>
              </a:rPr>
              <a:t>Validity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of a measure refers to whether or not it provides an accurate measure of the phenomenon being studied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Picture 3"/>
          <p:cNvPicPr/>
          <p:nvPr/>
        </p:nvPicPr>
        <p:blipFill>
          <a:blip r:embed="rId1"/>
          <a:stretch/>
        </p:blipFill>
        <p:spPr>
          <a:xfrm>
            <a:off x="2133720" y="914400"/>
            <a:ext cx="5029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scussion Question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k and write down a vivid memory from your childhood school experience. Why has this memory stuck with you and the way you want to learn from this memory?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y do children in the United States not perform as well as children from Singapore, Hong Kong, or Japan on international assessments?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479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ional practices di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ime spent on mathematics  instr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ach to problem solving v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verage Percentages of Concepts in 8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Grade Mathematics Lessons that Were Stated vs. Developed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Figure 1.4)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62" name="Picture 4" descr="mee32357_0105"/>
          <p:cNvPicPr/>
          <p:nvPr/>
        </p:nvPicPr>
        <p:blipFill>
          <a:blip r:embed="rId1"/>
          <a:stretch/>
        </p:blipFill>
        <p:spPr>
          <a:xfrm>
            <a:off x="1066680" y="2209680"/>
            <a:ext cx="670572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ead Start programs can help offset some of the effects of poverty: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479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school drop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enage pregn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m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12:57:20Z</dcterms:created>
  <dc:creator>McGraw-Hill Higher Education</dc:creator>
  <dc:description/>
  <dc:language>en-US</dc:language>
  <cp:lastModifiedBy>anne marie</cp:lastModifiedBy>
  <dcterms:modified xsi:type="dcterms:W3CDTF">2011-10-04T15:59:51Z</dcterms:modified>
  <cp:revision>72</cp:revision>
  <dc:subject/>
  <dc:title>Chapter 1</dc:title>
</cp:coreProperties>
</file>